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F45-5030-40B9-B8B4-9F044AEB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FE3-BFFF-461A-B192-ABA123E5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D4D-03F0-44F3-AB90-AC15618B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90F-AD21-44BE-87D9-0333EC39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143-5C21-4787-93A1-75A0AD2F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376-FA33-437E-9B5E-C28C0715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61C-9434-4AD9-8ED7-00B90FF0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64A4-D197-47DC-9B56-DF82459E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237-C990-46B0-86F0-E01913E2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931-79A2-4156-9B59-C7849E0B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897-82B8-4BEB-B950-EC677DA3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6B0-3F56-4A2C-A623-23B43159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2C54-F02F-496D-BF7D-EB747D7A6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920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actical SAT Solving: Achievements, Problems, Opportuniti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2205000"/>
            <a:ext cx="6624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Modern resolution based SAT-solvers. What are they “made of”? Why do they work so we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. Linear size resolution proofs that can not be found efficiently (equivalence checking of combinational circui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. Testing the satisfiability of a formula by computing a stable set of poi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144000"/>
            <a:ext cx="85690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ircuits with a Common Specification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irst definition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816360" cy="23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529080" cy="23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0320" y="1217520"/>
            <a:ext cx="181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16480" y="1198440"/>
            <a:ext cx="181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75400" y="4076640"/>
            <a:ext cx="2854800" cy="1845360"/>
            <a:chOff x="275400" y="4076640"/>
            <a:chExt cx="2854800" cy="1845360"/>
          </a:xfrm>
        </p:grpSpPr>
        <p:sp>
          <p:nvSpPr>
            <p:cNvPr id="158" name=""/>
            <p:cNvSpPr/>
            <p:nvPr/>
          </p:nvSpPr>
          <p:spPr>
            <a:xfrm>
              <a:off x="1043280" y="4868640"/>
              <a:ext cx="502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35280" y="4868640"/>
              <a:ext cx="576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74920" y="4292280"/>
              <a:ext cx="5032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258920" y="465264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35280" y="4652640"/>
              <a:ext cx="287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826920" y="5229000"/>
              <a:ext cx="360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58920" y="522900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03640" y="5229000"/>
              <a:ext cx="287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690920" y="522900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24360" y="5229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66920" y="5229000"/>
              <a:ext cx="216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62200" y="4076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7400" y="4868640"/>
              <a:ext cx="111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69240" y="4868640"/>
              <a:ext cx="111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08880" y="4292280"/>
              <a:ext cx="111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5400" y="551628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8680" y="551628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10320" y="551628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42320" y="551628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5760" y="551628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780000" y="4076640"/>
            <a:ext cx="496872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mon specification (C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here is a circu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ulti-valued gates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just different implementation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ircu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ove are two different implementations of ga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n the lef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6093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multi-valued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pecification and Implement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98520" y="1628640"/>
          <a:ext cx="3052800" cy="335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8520" y="1628640"/>
                    <a:ext cx="305280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458360" y="5670720"/>
            <a:ext cx="151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rot="16200000">
            <a:off x="3551040" y="563220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7720" y="5746680"/>
            <a:ext cx="251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1506600"/>
            <a:ext cx="2303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“coding variabl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43320" y="6165720"/>
            <a:ext cx="34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)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Y)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Z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enco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46400" y="2298600"/>
            <a:ext cx="952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0" y="1268280"/>
          <a:ext cx="4002120" cy="3602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1268280"/>
                    <a:ext cx="4002120" cy="36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69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ircuits with a Common Specification</a:t>
            </a:r>
            <a:br>
              <a:rPr sz="36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another  definition equivalent to first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81636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352908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760320" y="1289160"/>
            <a:ext cx="181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16480" y="1270080"/>
            <a:ext cx="181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75400" y="4286160"/>
            <a:ext cx="2854800" cy="1845360"/>
            <a:chOff x="275400" y="4286160"/>
            <a:chExt cx="2854800" cy="1845360"/>
          </a:xfrm>
        </p:grpSpPr>
        <p:sp>
          <p:nvSpPr>
            <p:cNvPr id="197" name=""/>
            <p:cNvSpPr/>
            <p:nvPr/>
          </p:nvSpPr>
          <p:spPr>
            <a:xfrm>
              <a:off x="1043280" y="5078160"/>
              <a:ext cx="502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35280" y="5078160"/>
              <a:ext cx="576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74920" y="4501800"/>
              <a:ext cx="5032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1258920" y="486216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35280" y="4862160"/>
              <a:ext cx="287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26920" y="5438520"/>
              <a:ext cx="360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58920" y="543852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640" y="5438520"/>
              <a:ext cx="287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690920" y="543852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24360" y="54385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66920" y="5438520"/>
              <a:ext cx="216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62200" y="42861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3880" y="5078160"/>
              <a:ext cx="110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76080" y="5078160"/>
              <a:ext cx="110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15720" y="4501800"/>
              <a:ext cx="110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5400" y="572580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8680" y="572580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10320" y="572580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42320" y="572580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75760" y="5725800"/>
              <a:ext cx="105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419640" y="4292640"/>
            <a:ext cx="5113080" cy="18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a CS 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ircu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connected “in the same way” (i.e. they have 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ame communication gra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2,3 ar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oggle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6021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nication graph (acycl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87280" y="1989000"/>
            <a:ext cx="7201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ce Checking (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with a Common Specification (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oggle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of Circuits with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oggle Equivalenc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1225440"/>
            <a:ext cx="7315200" cy="7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output circuits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oggle equivalen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58760" y="3578400"/>
            <a:ext cx="0" cy="54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90640" y="358920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23920" y="3683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8560" y="408312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36280" y="407664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5520" y="29811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31840" y="243036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17560" y="243036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62080" y="2443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200" y="237960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64440" y="2370240"/>
            <a:ext cx="45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29160" y="366084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66084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87840" y="381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90400" y="411156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5800" y="411156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08000" y="29988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00440" y="243828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72120" y="243828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59120" y="234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11560" y="235908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09720" y="2349360"/>
            <a:ext cx="39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95280" y="2790720"/>
            <a:ext cx="2015280" cy="792000"/>
            <a:chOff x="395280" y="2790720"/>
            <a:chExt cx="2015280" cy="792000"/>
          </a:xfrm>
        </p:grpSpPr>
        <p:sp>
          <p:nvSpPr>
            <p:cNvPr id="246" name=""/>
            <p:cNvSpPr/>
            <p:nvPr/>
          </p:nvSpPr>
          <p:spPr>
            <a:xfrm flipH="1">
              <a:off x="395280" y="2790720"/>
              <a:ext cx="646560" cy="79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5280" y="3582720"/>
              <a:ext cx="1941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51120" y="2790720"/>
              <a:ext cx="559440" cy="79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41840" y="2790720"/>
              <a:ext cx="80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843280" y="2854440"/>
            <a:ext cx="2159640" cy="791640"/>
            <a:chOff x="2843280" y="2854440"/>
            <a:chExt cx="2159640" cy="791640"/>
          </a:xfrm>
        </p:grpSpPr>
        <p:sp>
          <p:nvSpPr>
            <p:cNvPr id="251" name=""/>
            <p:cNvSpPr/>
            <p:nvPr/>
          </p:nvSpPr>
          <p:spPr>
            <a:xfrm flipH="1">
              <a:off x="2843280" y="2854440"/>
              <a:ext cx="692640" cy="79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43280" y="3646080"/>
              <a:ext cx="2080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03520" y="2854440"/>
              <a:ext cx="599400" cy="79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35920" y="2854440"/>
              <a:ext cx="867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796000" y="2637000"/>
            <a:ext cx="3024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oggle equivalent, then there is 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ne-to-one map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ween outputs assign-men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9640" y="4941720"/>
            <a:ext cx="547236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9120" y="5511960"/>
            <a:ext cx="77979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oggle equivalent and have only one output, they ar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ither functionally equivalent or comp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ketch of Proof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16000" y="5877000"/>
            <a:ext cx="2376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space parti-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9240" y="4357800"/>
            <a:ext cx="1800000" cy="137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9560" y="4365720"/>
            <a:ext cx="102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y*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,..,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y*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266400" y="4724280"/>
            <a:ext cx="191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,..,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6000" y="5222880"/>
            <a:ext cx="19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,..,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1960" y="4724280"/>
            <a:ext cx="1097280" cy="649440"/>
          </a:xfrm>
          <a:custGeom>
            <a:avLst/>
            <a:gdLst/>
            <a:ahLst/>
            <a:rect l="l" t="t" r="r" b="b"/>
            <a:pathLst>
              <a:path w="744" h="480">
                <a:moveTo>
                  <a:pt x="0" y="0"/>
                </a:moveTo>
                <a:cubicBezTo>
                  <a:pt x="300" y="12"/>
                  <a:pt x="600" y="24"/>
                  <a:pt x="672" y="96"/>
                </a:cubicBezTo>
                <a:cubicBezTo>
                  <a:pt x="744" y="168"/>
                  <a:pt x="544" y="384"/>
                  <a:pt x="432" y="432"/>
                </a:cubicBezTo>
                <a:cubicBezTo>
                  <a:pt x="320" y="480"/>
                  <a:pt x="160" y="43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98520" y="5013360"/>
            <a:ext cx="576360" cy="504720"/>
          </a:xfrm>
          <a:custGeom>
            <a:avLst/>
            <a:gdLst/>
            <a:ahLst/>
            <a:rect l="l" t="t" r="r" b="b"/>
            <a:pathLst>
              <a:path w="336" h="344">
                <a:moveTo>
                  <a:pt x="0" y="8"/>
                </a:moveTo>
                <a:cubicBezTo>
                  <a:pt x="120" y="4"/>
                  <a:pt x="240" y="0"/>
                  <a:pt x="288" y="56"/>
                </a:cubicBezTo>
                <a:cubicBezTo>
                  <a:pt x="336" y="112"/>
                  <a:pt x="312" y="228"/>
                  <a:pt x="288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00320" y="4437000"/>
            <a:ext cx="287280" cy="4078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0" y="288"/>
                </a:moveTo>
                <a:cubicBezTo>
                  <a:pt x="60" y="264"/>
                  <a:pt x="120" y="240"/>
                  <a:pt x="144" y="192"/>
                </a:cubicBezTo>
                <a:cubicBezTo>
                  <a:pt x="168" y="144"/>
                  <a:pt x="156" y="72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70160" y="4359240"/>
            <a:ext cx="1800360" cy="137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02080" y="4367160"/>
            <a:ext cx="982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*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..,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*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06120" y="4726080"/>
            <a:ext cx="187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..,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8520" y="5224320"/>
            <a:ext cx="193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..,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43240" y="4726080"/>
            <a:ext cx="1096920" cy="649080"/>
          </a:xfrm>
          <a:custGeom>
            <a:avLst/>
            <a:gdLst/>
            <a:ahLst/>
            <a:rect l="l" t="t" r="r" b="b"/>
            <a:pathLst>
              <a:path w="744" h="480">
                <a:moveTo>
                  <a:pt x="0" y="0"/>
                </a:moveTo>
                <a:cubicBezTo>
                  <a:pt x="300" y="12"/>
                  <a:pt x="600" y="24"/>
                  <a:pt x="672" y="96"/>
                </a:cubicBezTo>
                <a:cubicBezTo>
                  <a:pt x="744" y="168"/>
                  <a:pt x="544" y="384"/>
                  <a:pt x="432" y="432"/>
                </a:cubicBezTo>
                <a:cubicBezTo>
                  <a:pt x="320" y="480"/>
                  <a:pt x="160" y="43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5014800"/>
            <a:ext cx="576000" cy="505080"/>
          </a:xfrm>
          <a:custGeom>
            <a:avLst/>
            <a:gdLst/>
            <a:ahLst/>
            <a:rect l="l" t="t" r="r" b="b"/>
            <a:pathLst>
              <a:path w="336" h="344">
                <a:moveTo>
                  <a:pt x="0" y="8"/>
                </a:moveTo>
                <a:cubicBezTo>
                  <a:pt x="120" y="4"/>
                  <a:pt x="240" y="0"/>
                  <a:pt x="288" y="56"/>
                </a:cubicBezTo>
                <a:cubicBezTo>
                  <a:pt x="336" y="112"/>
                  <a:pt x="312" y="228"/>
                  <a:pt x="288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1240" y="4438800"/>
            <a:ext cx="287280" cy="4078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0" y="288"/>
                </a:moveTo>
                <a:cubicBezTo>
                  <a:pt x="60" y="264"/>
                  <a:pt x="120" y="240"/>
                  <a:pt x="144" y="192"/>
                </a:cubicBezTo>
                <a:cubicBezTo>
                  <a:pt x="168" y="144"/>
                  <a:pt x="156" y="72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8480" y="2459160"/>
            <a:ext cx="0" cy="47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24080" y="2468520"/>
            <a:ext cx="0" cy="47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3160" y="25970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9320" y="289872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28320" y="292428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17560" y="19861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1040" y="1457280"/>
            <a:ext cx="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71520" y="1457280"/>
            <a:ext cx="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96680" y="1363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4560" y="141300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24440" y="140508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95760" y="260028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06600" y="260028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93960" y="27860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96600" y="300528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9400" y="303228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06920" y="20718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46520" y="153504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55840" y="153504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93960" y="14605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95080" y="148896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26040" y="148104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24000" y="1771560"/>
            <a:ext cx="1443600" cy="690120"/>
            <a:chOff x="324000" y="1771560"/>
            <a:chExt cx="1443600" cy="690120"/>
          </a:xfrm>
        </p:grpSpPr>
        <p:sp>
          <p:nvSpPr>
            <p:cNvPr id="297" name=""/>
            <p:cNvSpPr/>
            <p:nvPr/>
          </p:nvSpPr>
          <p:spPr>
            <a:xfrm flipH="1">
              <a:off x="324000" y="1771560"/>
              <a:ext cx="462960" cy="69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4000" y="2461680"/>
              <a:ext cx="1390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66920" y="1771560"/>
              <a:ext cx="400680" cy="69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6960" y="1771560"/>
              <a:ext cx="57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231640" y="1897200"/>
            <a:ext cx="1547640" cy="691560"/>
            <a:chOff x="2231640" y="1897200"/>
            <a:chExt cx="1547640" cy="691560"/>
          </a:xfrm>
        </p:grpSpPr>
        <p:sp>
          <p:nvSpPr>
            <p:cNvPr id="302" name=""/>
            <p:cNvSpPr/>
            <p:nvPr/>
          </p:nvSpPr>
          <p:spPr>
            <a:xfrm flipH="1">
              <a:off x="2231640" y="1897200"/>
              <a:ext cx="496440" cy="69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32000" y="2588760"/>
              <a:ext cx="1490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49800" y="1897200"/>
              <a:ext cx="429480" cy="69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28440" y="1897200"/>
              <a:ext cx="62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588000" y="17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1341360"/>
            <a:ext cx="416412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 the partition of the set of input assignmen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subsets for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s the same output assig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the same partition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0" y="3429000"/>
            <a:ext cx="4197240" cy="28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If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 and N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re toggle equivalent, then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have to be identic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there are two points (i.e. input assignments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are in the same subse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n two different subse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vice versa. So eit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ggles whi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not or vice 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Finding Output Relation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0800" y="2448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50800" y="2457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8320" y="25797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1120" y="284940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75920" y="287172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87400" y="20210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4160" y="15368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87440" y="15368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8320" y="14605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5840" y="149544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92560" y="14875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2280" y="2505240"/>
            <a:ext cx="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45000" y="2505240"/>
            <a:ext cx="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39920" y="25401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12600" y="285264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69760" y="285264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90960" y="202716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92400" y="1533600"/>
            <a:ext cx="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84520" y="1533600"/>
            <a:ext cx="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73320" y="14605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90200" y="149220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06920" y="14842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50920" y="1822320"/>
            <a:ext cx="1732680" cy="630000"/>
            <a:chOff x="250920" y="1822320"/>
            <a:chExt cx="1732680" cy="630000"/>
          </a:xfrm>
        </p:grpSpPr>
        <p:sp>
          <p:nvSpPr>
            <p:cNvPr id="333" name=""/>
            <p:cNvSpPr/>
            <p:nvPr/>
          </p:nvSpPr>
          <p:spPr>
            <a:xfrm flipH="1">
              <a:off x="250920" y="1822320"/>
              <a:ext cx="55584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0920" y="2452320"/>
              <a:ext cx="166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02640" y="1822320"/>
              <a:ext cx="48096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6760" y="1822320"/>
              <a:ext cx="695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355840" y="1863720"/>
            <a:ext cx="1856520" cy="630000"/>
            <a:chOff x="2355840" y="1863720"/>
            <a:chExt cx="1856520" cy="630000"/>
          </a:xfrm>
        </p:grpSpPr>
        <p:sp>
          <p:nvSpPr>
            <p:cNvPr id="338" name=""/>
            <p:cNvSpPr/>
            <p:nvPr/>
          </p:nvSpPr>
          <p:spPr>
            <a:xfrm flipH="1">
              <a:off x="2355840" y="1863720"/>
              <a:ext cx="59544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55840" y="2493720"/>
              <a:ext cx="1788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97200" y="1863720"/>
              <a:ext cx="51516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51280" y="1863720"/>
              <a:ext cx="745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003640" y="1603440"/>
            <a:ext cx="388944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03640" y="2924280"/>
            <a:ext cx="3888000" cy="386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 by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 function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Here sat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CNF formula specify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obtained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existential quantification of the variabl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1 iff there is an input vect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3933720"/>
            <a:ext cx="4103640" cy="200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represented as a CNF formula. Then  a CNF formu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resenting the relation of outpu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obtained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resolving out all the variabl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Bijective Function Relation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8360" y="1576440"/>
            <a:ext cx="8207280" cy="221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sets of  Boolean variable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a Boolean function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ijective function re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ff  there is  a subset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0,1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|X|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0,1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|Y|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= |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specifies a bijective mapp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Namely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1 if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3933720"/>
            <a:ext cx="8207280" cy="23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bijective function relation need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SAT chec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bo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unsatisfiable,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bijective function 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oggle Equivalence of Circuits with Different Inpu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82720" y="278928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20920" y="279864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66520" y="2878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0320" y="321480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28040" y="323856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80560" y="2286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36720" y="182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66920" y="182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20880" y="1766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6560" y="177804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13720" y="1770120"/>
            <a:ext cx="45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0200" y="280656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94000" y="280656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49320" y="2938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63480" y="3197160"/>
            <a:ext cx="405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93920" y="3218040"/>
            <a:ext cx="405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61560" y="22478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22400" y="1774800"/>
            <a:ext cx="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41800" y="1774800"/>
            <a:ext cx="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01880" y="170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09840" y="170820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65280" y="1700280"/>
            <a:ext cx="39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394920" y="2124000"/>
            <a:ext cx="1480680" cy="668160"/>
            <a:chOff x="394920" y="2124000"/>
            <a:chExt cx="1480680" cy="668160"/>
          </a:xfrm>
        </p:grpSpPr>
        <p:sp>
          <p:nvSpPr>
            <p:cNvPr id="372" name=""/>
            <p:cNvSpPr/>
            <p:nvPr/>
          </p:nvSpPr>
          <p:spPr>
            <a:xfrm flipH="1">
              <a:off x="394920" y="2124000"/>
              <a:ext cx="474840" cy="66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5280" y="2792160"/>
              <a:ext cx="1426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64840" y="2124000"/>
              <a:ext cx="410760" cy="66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0120" y="2124000"/>
              <a:ext cx="594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192400" y="2125800"/>
            <a:ext cx="1586880" cy="667800"/>
            <a:chOff x="2192400" y="2125800"/>
            <a:chExt cx="1586880" cy="667800"/>
          </a:xfrm>
        </p:grpSpPr>
        <p:sp>
          <p:nvSpPr>
            <p:cNvPr id="377" name=""/>
            <p:cNvSpPr/>
            <p:nvPr/>
          </p:nvSpPr>
          <p:spPr>
            <a:xfrm flipH="1">
              <a:off x="2192400" y="2125800"/>
              <a:ext cx="509040" cy="66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92400" y="2793600"/>
              <a:ext cx="1528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39000" y="2125800"/>
              <a:ext cx="440280" cy="66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01440" y="2125800"/>
              <a:ext cx="63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4788000" y="1792440"/>
            <a:ext cx="403200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different input variables that are related by a bijective function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 if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bijectiv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1280" y="40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9640" y="4437000"/>
            <a:ext cx="77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ssume tha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nly pairs of input vector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for which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f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)=1 are “legal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one can extend definition of toggle equival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1280" y="5373720"/>
            <a:ext cx="77770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output circuits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oggle equivalen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or any pair of vector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 is true tha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whe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02560" y="383688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1116000" y="3500280"/>
            <a:ext cx="216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332000" y="3573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87280" y="1989000"/>
            <a:ext cx="7201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ce Checking (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with a Common Specification (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gle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C of Circuits with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1989000"/>
            <a:ext cx="7201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ce Checking (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with a Common Specification (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gle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of Circuits with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n Example of EC of Circuits with a known C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316240" y="2992320"/>
            <a:ext cx="965160" cy="471600"/>
            <a:chOff x="2316240" y="2992320"/>
            <a:chExt cx="965160" cy="471600"/>
          </a:xfrm>
        </p:grpSpPr>
        <p:sp>
          <p:nvSpPr>
            <p:cNvPr id="392" name=""/>
            <p:cNvSpPr/>
            <p:nvPr/>
          </p:nvSpPr>
          <p:spPr>
            <a:xfrm flipH="1">
              <a:off x="2316240" y="2992320"/>
              <a:ext cx="32112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59920" y="2992320"/>
              <a:ext cx="32112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16240" y="3463920"/>
              <a:ext cx="965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37360" y="2992320"/>
              <a:ext cx="322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H="1">
            <a:off x="1834920" y="1851120"/>
            <a:ext cx="1584360" cy="16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19640" y="1851120"/>
            <a:ext cx="1584000" cy="16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487680" y="2992320"/>
            <a:ext cx="965160" cy="471600"/>
            <a:chOff x="3487680" y="2992320"/>
            <a:chExt cx="965160" cy="471600"/>
          </a:xfrm>
        </p:grpSpPr>
        <p:sp>
          <p:nvSpPr>
            <p:cNvPr id="399" name=""/>
            <p:cNvSpPr/>
            <p:nvPr/>
          </p:nvSpPr>
          <p:spPr>
            <a:xfrm flipH="1">
              <a:off x="3487680" y="2992320"/>
              <a:ext cx="32112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31360" y="2992320"/>
              <a:ext cx="32112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87680" y="3463920"/>
              <a:ext cx="965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8800" y="2992320"/>
              <a:ext cx="322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936520" y="2205000"/>
            <a:ext cx="964080" cy="471600"/>
            <a:chOff x="2936520" y="2205000"/>
            <a:chExt cx="964080" cy="471600"/>
          </a:xfrm>
        </p:grpSpPr>
        <p:sp>
          <p:nvSpPr>
            <p:cNvPr id="404" name=""/>
            <p:cNvSpPr/>
            <p:nvPr/>
          </p:nvSpPr>
          <p:spPr>
            <a:xfrm flipH="1">
              <a:off x="2936520" y="2205000"/>
              <a:ext cx="32076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79480" y="2205000"/>
              <a:ext cx="32076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936880" y="2676600"/>
              <a:ext cx="96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57640" y="2205000"/>
              <a:ext cx="321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1835280" y="3543480"/>
            <a:ext cx="31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43160" y="34639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54120" y="34639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25920" y="34639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14960" y="34639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14600" y="35035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55880" y="35035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730600" y="2676240"/>
            <a:ext cx="27612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868480" y="2676240"/>
            <a:ext cx="27468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3693960" y="2676240"/>
            <a:ext cx="20664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3763800" y="2676240"/>
            <a:ext cx="20664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3831840" y="2676240"/>
            <a:ext cx="20628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419640" y="1536840"/>
            <a:ext cx="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83280" y="304956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97560" y="304956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44960" y="228456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773680" y="2963880"/>
            <a:ext cx="965160" cy="471600"/>
            <a:chOff x="5773680" y="2963880"/>
            <a:chExt cx="965160" cy="471600"/>
          </a:xfrm>
        </p:grpSpPr>
        <p:sp>
          <p:nvSpPr>
            <p:cNvPr id="425" name=""/>
            <p:cNvSpPr/>
            <p:nvPr/>
          </p:nvSpPr>
          <p:spPr>
            <a:xfrm flipH="1">
              <a:off x="5773680" y="2963880"/>
              <a:ext cx="32112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17360" y="2963880"/>
              <a:ext cx="32112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73680" y="3435480"/>
              <a:ext cx="965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4800" y="2963880"/>
              <a:ext cx="322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>
            <a:off x="5292360" y="1822320"/>
            <a:ext cx="1584360" cy="16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77080" y="1822320"/>
            <a:ext cx="1584360" cy="16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945480" y="2963880"/>
            <a:ext cx="965160" cy="471600"/>
            <a:chOff x="6945480" y="2963880"/>
            <a:chExt cx="965160" cy="471600"/>
          </a:xfrm>
        </p:grpSpPr>
        <p:sp>
          <p:nvSpPr>
            <p:cNvPr id="432" name=""/>
            <p:cNvSpPr/>
            <p:nvPr/>
          </p:nvSpPr>
          <p:spPr>
            <a:xfrm flipH="1">
              <a:off x="6945480" y="2963880"/>
              <a:ext cx="32112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89160" y="2963880"/>
              <a:ext cx="321120" cy="4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45480" y="3435480"/>
              <a:ext cx="965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66600" y="2963880"/>
              <a:ext cx="322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393960" y="2176560"/>
            <a:ext cx="964080" cy="471240"/>
            <a:chOff x="6393960" y="2176560"/>
            <a:chExt cx="964080" cy="471240"/>
          </a:xfrm>
        </p:grpSpPr>
        <p:sp>
          <p:nvSpPr>
            <p:cNvPr id="437" name=""/>
            <p:cNvSpPr/>
            <p:nvPr/>
          </p:nvSpPr>
          <p:spPr>
            <a:xfrm flipH="1">
              <a:off x="6393960" y="2176560"/>
              <a:ext cx="320760" cy="47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36920" y="2176560"/>
              <a:ext cx="320760" cy="47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94320" y="2647800"/>
              <a:ext cx="96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15080" y="2176560"/>
              <a:ext cx="321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5292720" y="3514680"/>
            <a:ext cx="31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00960" y="343548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11920" y="343548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3360" y="343548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2400" y="343548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972040" y="3475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213320" y="3475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6156360" y="2647800"/>
            <a:ext cx="27612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227640" y="2647800"/>
            <a:ext cx="27468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7164000" y="2647800"/>
            <a:ext cx="20628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7289640" y="2647800"/>
            <a:ext cx="20664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877080" y="1507680"/>
            <a:ext cx="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940720" y="304956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155000" y="304956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02760" y="225576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640" y="4149720"/>
            <a:ext cx="770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Sa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Sa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*(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*  a bijective function rel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7704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a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a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 a bijective  function rel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5661000"/>
            <a:ext cx="7704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Sa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Sa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1*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*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* a bijective  function rel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99760" y="14842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235200" y="15368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274920" y="2328840"/>
            <a:ext cx="1944720" cy="576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19640" y="2328840"/>
            <a:ext cx="936720" cy="576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63760" y="184464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300720" y="2662200"/>
            <a:ext cx="27468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C of Circuits with a Known CS </a:t>
            </a:r>
            <a:br>
              <a:rPr sz="36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pseudocode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26920" y="1775160"/>
            <a:ext cx="799164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ec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ec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// check if Spec(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) is topological (i.e. that its comm. graph is acycl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pol_spec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ec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=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 |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pol_spec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ec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=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return(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S_check_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// check isormophism of communication grap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_isomorph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ec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Spec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=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return(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S_check_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// main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o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n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raint_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ist_quan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n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ijective_function_r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=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 return(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S_check_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// last subcircuits are functionally equival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quivalence_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  return(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quival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else return(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equival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19560" y="1341360"/>
            <a:ext cx="519336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mplexity in Resolution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42920" y="1341360"/>
            <a:ext cx="7416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the size of the largest subcircu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2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k. We will c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ranularity of spec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c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Denote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ax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We will c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granularity of 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16000" y="2933640"/>
            <a:ext cx="7201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dure we described 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the number of subcircu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xpon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ranular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87280" y="3790800"/>
            <a:ext cx="6985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ponentialit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because one needs to compute the relation between outpu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heck if it specifies a bijective funci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6760" y="4959360"/>
            <a:ext cx="736596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the class of CNF formulas describing equivalence checking of circuits with a CS of granularity bounded by a consta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Formula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ve linear size resolution proo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C by  Deterministic Algorithm If  CS Is Unknow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042920" y="1700280"/>
            <a:ext cx="73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mu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an be solved by the following trivial algorithm. This algorithm is to generate resolvents of length no more than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terals.  (If a resolvent becomes longer than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iscard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16000" y="3357720"/>
            <a:ext cx="7292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xity of this algorithm is |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 |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is the length of formu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lthough, this algorithm is polynomial  for a fix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ts complexity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u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16000" y="4672080"/>
            <a:ext cx="7201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mplexity is due to the fact that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re unknown, this algorithm just resolves all claus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can be resol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an We Do Better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971640" y="2637000"/>
            <a:ext cx="727236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formula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describing equivalence checking of circu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specifica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Finding a short proof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nsatisfiable would mean find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inding their CS of granularit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hard. (Ideally, one should show that the problem of finding a CS of granularit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P-complete or give some other formal estimate of the complexity of this problem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095480" y="1216080"/>
            <a:ext cx="7148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very unlikely that there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fficient 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solving formula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This claim is based on the following two assump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258920" y="1557360"/>
            <a:ext cx="72007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ce Checking (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with a Common Specification (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gle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of Circuits with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ower of  SAT-Solver Is Very Limited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58920" y="1557360"/>
            <a:ext cx="66452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introduced a class of formulas where there is a sharp separation between the complexity of non-deterministic algorithm (that knows a CS of circui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a deterministic algorithm (that does know C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32000" y="515772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sult emphasizes how limited the power of a “black-box” SAT solver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39840" y="3879720"/>
            <a:ext cx="678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58920" y="3573360"/>
            <a:ext cx="6716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dly, this class of formulas is not a mathemtical curiousity. On the contrary, it is very important from a practical point of vie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aking SAT-solver More “Intelligent”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1700280"/>
            <a:ext cx="6789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EC of circui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a CS, giving a SAT-solver a little “tip” in the form of partition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subcircuits makes huge dif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187280" y="3573360"/>
            <a:ext cx="72201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tioners usually try to    build an efficient black-box SAT-solver  (that should  not exist unless         P = NP). A  more reasonable approach is to explore various possibilities to make a SAT-solver more receptive to information supplied by the user. This should make a SAT-solver more intelli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7742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actical SAT Solving: Achievements, Problems, Opportuniti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32000" y="2205000"/>
            <a:ext cx="6624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Modern resolution based SAT-solvers. What are they “made of”? Why do they work so we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2. Linear size resolution proofs that can not be found efficiently (equivalence checking of combinational circui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3. Testing the satisfiability of a formula by computing a stable set of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042920" y="1484280"/>
            <a:ext cx="741672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3. Testing the satisfiability of a formula by computing a stable set of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ble Set of Points (S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SSPs 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SSPs in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to Symmetric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wo Kinds of Complexity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421000"/>
            <a:ext cx="78487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rtest proofs for formula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ponential  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igeon-hole formulas for  R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short proof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there is no algorithm to find them (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is not automatiz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1413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proof syste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ving unsatisfiability of  CNFs  of a cla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be  hard for two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4365720"/>
            <a:ext cx="801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part,  we consider the second kind of complexity on the example of equivalence checking (EC).  We introduce an important class of EC formulas  that hav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ort resolution proo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most probabl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an not be found effici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 deterministic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aking into Account Formula Specific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258920" y="1557360"/>
            <a:ext cx="700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AT-solvers are not very good at taking into accoun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ormula specif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For example, if a formula has symmery, a resolution based  SAT-algorithm taking into account this symmetry looks ackw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32000" y="4221000"/>
            <a:ext cx="6696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SSP of a formula is an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gorithm-indepe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characteristic” of this form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Ps can take into account formula specifics through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ustering of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an SSP of a formula can be viewed as proving unsatisfiability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y in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187280" y="3068640"/>
            <a:ext cx="69850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tion of a Stable Set of Points (SSP) is a promising way to make  use of particular properties of a CNF formula. SSPs have the following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teresting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Random Walk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00000" y="1413000"/>
            <a:ext cx="286560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adimitriou 1991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man, Kautz 19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4360" y="2819520"/>
            <a:ext cx="4724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038600" y="249228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fl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76680" y="249228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fl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00920" y="249228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fl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11280" y="3213000"/>
            <a:ext cx="360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1   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…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5640" y="4005360"/>
            <a:ext cx="309564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lution the closest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eachable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eps at m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15120" y="249228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fl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26920" y="5229360"/>
            <a:ext cx="302436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 falsify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as a “stepping sto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00720" y="1341360"/>
            <a:ext cx="4032000" cy="405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a satisfiable CNF formula.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be a claus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e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…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 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…) be a complete assignment falsify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atisfiable, there is a satisfying assignme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Sinc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tisfi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eit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by flipp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omes closer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1-Neighborhood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166760" y="1619280"/>
            <a:ext cx="6718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the clause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CN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Le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)  be a point that falsifi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58920" y="5149800"/>
            <a:ext cx="66261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given a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lsifying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set  of the points that are at Hamming distance 1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at satisf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187280" y="4022640"/>
            <a:ext cx="69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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is called the 1-neighborhood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respect to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t is denot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39840" y="2630520"/>
            <a:ext cx="6788160" cy="113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the following three points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)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..,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)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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obtained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flipping the valu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able Set of Points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trivial example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095480" y="1695600"/>
            <a:ext cx="73641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CNF formula of, say, a million variables that contains the following three clau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66760" y="3063960"/>
            <a:ext cx="7508880" cy="113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..) be a point falsify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e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..)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)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  ..) be points obtained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flipping the valu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/or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16000" y="4221000"/>
            <a:ext cx="736452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 by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et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0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0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0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0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re subse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For exampl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able Set of Points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example cont.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409840" y="1844640"/>
            <a:ext cx="144360" cy="144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09840" y="3139920"/>
            <a:ext cx="144360" cy="1447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706920" y="1844640"/>
            <a:ext cx="144360" cy="144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06920" y="3139920"/>
            <a:ext cx="144360" cy="1447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81120" y="19875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54200" y="1916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74600" y="2276640"/>
            <a:ext cx="555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20320" y="141300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03440" y="1484280"/>
            <a:ext cx="847080" cy="787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30440" y="1628640"/>
            <a:ext cx="75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0360" y="2924280"/>
            <a:ext cx="847080" cy="787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85120" y="1494000"/>
            <a:ext cx="847080" cy="787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85120" y="2924280"/>
            <a:ext cx="847080" cy="787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630440" y="2997360"/>
            <a:ext cx="75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35520" y="1628640"/>
            <a:ext cx="75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35520" y="2997360"/>
            <a:ext cx="75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56000" y="321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80000" y="1989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715440" y="1341360"/>
            <a:ext cx="183780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68360" y="3933720"/>
            <a:ext cx="4032360" cy="235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that we try to reach a solution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y random wal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rting from a poin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using the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s a “stepping stone” when we reac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at is next point is picked from th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32360" y="4797360"/>
            <a:ext cx="3887640" cy="135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uch a random wal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aches a point other than those in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n the formula is unsatisf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227640" y="2637000"/>
            <a:ext cx="291636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fol-lowing function map-p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to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table Set of Points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definition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26920" y="3232080"/>
            <a:ext cx="7345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app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for an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4357800"/>
            <a:ext cx="74170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nsatisfiable if and only if there is a set of poin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ransport fun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ble set of points (SS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26920" y="1989000"/>
            <a:ext cx="73454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 set of all point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0,1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subse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We will call a mapp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transport fun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or an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116000" y="1844640"/>
            <a:ext cx="741672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3. Testing the satisfiability of a formula by computing a stable set of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Set of Points (S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puting SSPs 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SSPs in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to Symmetric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 Trivial Algorithm for Computing SSP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79640" y="1989000"/>
            <a:ext cx="5688000" cy="4118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a starting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ick a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\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ind th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 clauses falsifi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s a solution. S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ick a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. 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Nbhd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C) \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If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SSP. S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Go to step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SPs for Random CNF Formula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523880" y="1547640"/>
          <a:ext cx="6096240" cy="4227840"/>
        </p:xfrm>
        <a:graphic>
          <a:graphicData uri="http://schemas.openxmlformats.org/drawingml/2006/table">
            <a:tbl>
              <a:tblPr/>
              <a:tblGrid>
                <a:gridCol w="2057400"/>
                <a:gridCol w="1905120"/>
                <a:gridCol w="21337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variables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|SSP|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|SSP| /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3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6,3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70,8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1844640"/>
            <a:ext cx="741672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3. Testing the satisfiability of a formula by computing a stable set of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Set of Points (S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SSPs 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puting SSPs in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to Symmetric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peration between Deterministic and Non-Deteriministic SAT-Algorithm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19360"/>
            <a:ext cx="6769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” of deterministic and non-deterministic algorithms for satisfiable formulas is obvious. There is a linear complexity non-deterministic algorithm while no efficient deterministic algorithm exi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ess P = N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8920" y="3500280"/>
            <a:ext cx="67690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satisfiable formulas such separation is not “trivial”. Many classes of formulas having short resolution proofs of unsatisfiability can also be easily solved by a deterministic algorithm. This applies for example to 2-CNF and Horn formu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mputing SSPs more efficientl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42920" y="1052640"/>
            <a:ext cx="72201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an SSP of a CNF formu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point by point” is to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effic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 few ways to “speed up” the computation of SSPs dramatically. One of them is to compute an SSP in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usters of poi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Clusters may be represented implicitly.  So instead of an SSP one build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table set of clus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16000" y="3933720"/>
            <a:ext cx="705636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ints are processed at once. Since a cluster may be represented implicitly, it may be of  exponentia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picking the “shape” of clusters one can input information about subtle structural properties of formu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an build complex hierarchies of stable objects like a stable set of clusters of clusters and so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58920" y="342900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pproach has the following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ree advanta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 Stable Set of Cluster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71640" y="1341360"/>
            <a:ext cx="721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CNF formula. Le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transport funcit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 by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 union of 1-neighborhood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over all the poin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023840" y="2565360"/>
            <a:ext cx="714852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subse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(We will call sub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clu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transport fun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c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ble set of clus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SS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ransport func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for every clus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95480" y="4430880"/>
            <a:ext cx="70768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SSP of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any set of subse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S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vice versa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SSC , then the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..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S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Building  SSCs efficiently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11120" y="1550880"/>
            <a:ext cx="66456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finition of an SSC we gave above is too “loose”. To compute SSCs efficiently we impose three more infor- mal requirements on  cluster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ing an S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84200" y="3206880"/>
            <a:ext cx="6283440" cy="305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to have 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“compact           representation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can be handled efficie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putation of  1-neighborh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should be “easy” for every clus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should exis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 efficient proced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esting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o facilitate efficiency one may require, for example,  tha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116000" y="1844640"/>
            <a:ext cx="741672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3. Testing the satisfiability of a formula by computing a stable set of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Set of Points (S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SSPs 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SSPs in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pplication to Symmetric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ymmetric CNF Formula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00000" y="1268280"/>
            <a:ext cx="7704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a CNF formula. Denote b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permutation preser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.e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note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 set  of all permutations under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s symmetric. This set form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00000" y="350028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0,1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ymmetric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om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orb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the set of all points that can be obtained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permutation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00000" y="2565360"/>
            <a:ext cx="7344000" cy="7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symmetric under the permutation swapp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00000" y="4724280"/>
            <a:ext cx="7344000" cy="178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definition of a group it follows that i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0,1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ymmetric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I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not symmetric,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o the set {0,1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partitioned into subse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ach sub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ing an orbit of a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1-Neighborhood of an Orbi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42920" y="1341360"/>
            <a:ext cx="7058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n orbit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(I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So checking whet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ubse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rivial. 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0 for a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116000" y="5160960"/>
            <a:ext cx="7201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Le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equal to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hard to show that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) 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95480" y="2714760"/>
            <a:ext cx="7076880" cy="224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us define a transport fun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following way. Let us pick a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lect a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. Le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poin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n we pick the claus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*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equal to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) as the valu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n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the clau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Besides, it is not hard to show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uilding SSC for Symmetric CNF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00000" y="1500120"/>
            <a:ext cx="7274160" cy="4423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a starting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ick a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\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ind th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 clauses falsifi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s a solution. S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ick a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Remove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very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Modif.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to a point of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if.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If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cifies an SSC. Stop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ied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Go to step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mments to The Procedure For Building SSC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455840" y="1628640"/>
            <a:ext cx="65008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dure above can be viewed as building an SSC. 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epresented by a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is currently in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(Tha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orbit of a point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r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76360" y="3290760"/>
            <a:ext cx="67676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check if a poin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symmetric to some other  point of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wo modified lines of paragraph 5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to  make sure that we do not add a cluster (i.e. an orbit) that has been already vis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27120" y="5013360"/>
            <a:ext cx="6500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547640" y="5018040"/>
            <a:ext cx="65739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equal to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when the set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mpty.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n SSC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n SSP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re Orbits “Simple” Clusters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16000" y="134136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bits satisfy the three “simplicity” requirements to clusters we mentioned abov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dulo complexity of checking if two points are symmet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87280" y="2421000"/>
            <a:ext cx="6932880" cy="448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easy to represent because it is specified by one point (i.e. 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The rest of the poin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ymmetric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o 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represented implici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easily computable. One just needs to compute th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.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represen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bits whose union is equal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eck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ne needs to check if every poi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b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is symmetric to  a point from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.  In general, this operation may have non-trivial complex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Pigeon-Hole Formula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27120" y="2343240"/>
            <a:ext cx="5924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023840" y="1335240"/>
            <a:ext cx="743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F formu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describes the problem of alloca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s (pigeons)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ainers (holes). No two pigeons may share the same hol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16000" y="422100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re unsatisfiable. Haken showed that formul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ve only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exponential proofs in R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116000" y="5157720"/>
            <a:ext cx="712800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re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ghly symmet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consists  of all permutation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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permutation of pigeons (respectively ho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42920" y="2421000"/>
            <a:ext cx="7508880" cy="174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Boolean variabl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h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equal to 1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 pigeon i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 hole. Otherwi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onsists of clauses 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h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i1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h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iring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 pigeon has to be in at least one hole and clauses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~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h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rj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~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h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s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ing that two pigeons may not share the same h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1989000"/>
            <a:ext cx="7201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quivalence Checking (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with a Common Specification (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gle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of Circuits with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SC for Pigeon-Hole Formula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26920" y="1125360"/>
            <a:ext cx="770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shown that 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mula there is an SSC of 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 clusters. Some clusters have exponential size (so the corresponding SSP is exponential).  The seven points below specify the seven clusters for the ca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468600" y="3270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68600" y="3575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68600" y="38797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468600" y="41846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73520" y="3270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73520" y="3575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773520" y="38797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73520" y="41846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078440" y="32702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78440" y="35751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78440" y="387972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78440" y="41846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68800" y="3270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68800" y="3575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8800" y="38797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068800" y="41846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73720" y="3270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73720" y="3575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3720" y="38797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3720" y="41846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678640" y="32702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78640" y="35751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678640" y="387972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78640" y="41846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97600" y="3270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97600" y="3575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97600" y="38797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97600" y="41846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202520" y="3270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202520" y="3575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202520" y="38797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202520" y="41846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507440" y="32702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507440" y="35751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07440" y="387972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07440" y="41846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92640" y="49467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92640" y="525132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392640" y="55562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392640" y="58611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97200" y="49467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697200" y="52513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697200" y="5556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697200" y="5861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02120" y="49467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02120" y="52513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02120" y="5556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002120" y="5861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992840" y="49467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92840" y="525132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92840" y="55562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92840" y="58611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297400" y="49467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297400" y="52513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297400" y="5556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297400" y="5861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602320" y="49467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602320" y="52513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602320" y="5556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02320" y="5861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39800" y="3270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39800" y="3575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39800" y="38797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39800" y="41846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944720" y="3270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44720" y="3575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944720" y="38797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44720" y="41846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249640" y="32702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49640" y="35751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49640" y="387972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49640" y="41846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44920" y="334656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639800" y="49467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39800" y="52513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639800" y="5556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39800" y="5861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44720" y="49467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44720" y="525132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44720" y="5556240"/>
            <a:ext cx="30492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44720" y="5861160"/>
            <a:ext cx="30492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249640" y="49467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249640" y="525132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49640" y="5556240"/>
            <a:ext cx="304560" cy="30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49640" y="5861160"/>
            <a:ext cx="304560" cy="304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93000" y="2778120"/>
            <a:ext cx="104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14560" y="311796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14560" y="342252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14560" y="372744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14560" y="403236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45120" y="334656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145120" y="3651120"/>
            <a:ext cx="152280" cy="15264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73920" y="334656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78840" y="3651120"/>
            <a:ext cx="152280" cy="15264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16120" y="5022720"/>
            <a:ext cx="152280" cy="15264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716120" y="563256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21040" y="532764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68600" y="5022720"/>
            <a:ext cx="152640" cy="15264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773520" y="532764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078440" y="563256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68800" y="5022720"/>
            <a:ext cx="152640" cy="15264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373720" y="532764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678640" y="5632560"/>
            <a:ext cx="152280" cy="15228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068800" y="5937120"/>
            <a:ext cx="152640" cy="15264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nclusions to Parts 1,2,3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87280" y="1557360"/>
            <a:ext cx="6500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tential of resolution based SAT-solvers has not been exausted. Search for  practical methods for finding short proofs may still bring surpri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AT-solver (or, more generally, a computer) most likely can not recover high-rank relations (like toggle equvialence of circuits).  So building SAT-solvers that are receptive to  structural information provided by the user is very importa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sets of points  may provide a framework for building such receptive SAT-solv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 Very Generic Reason to Study EC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10920" y="2290680"/>
            <a:ext cx="1152360" cy="10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2290680"/>
            <a:ext cx="1079640" cy="10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33591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8840" y="335916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19360" y="335916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01200" y="34164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763640" y="1833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3440" y="170028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49760" y="17002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2290680"/>
            <a:ext cx="574560" cy="4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880" y="23493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492360" y="1819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84000" y="4811760"/>
            <a:ext cx="1152360" cy="10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36720" y="4811760"/>
            <a:ext cx="1079640" cy="10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58802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61920" y="588024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2440" y="588024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74280" y="59371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36720" y="4354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6520" y="422100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26480" y="436572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07280" y="4811760"/>
            <a:ext cx="574560" cy="47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23520" y="48704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594560" y="4340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203640" y="4946760"/>
            <a:ext cx="70632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09960" y="4946760"/>
            <a:ext cx="66060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587052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73560" y="587052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33760" y="587052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4280" y="591984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909960" y="455292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11640" y="4881600"/>
            <a:ext cx="4460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58040" y="4881600"/>
            <a:ext cx="4176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58165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9640" y="581652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88160" y="581652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92360" y="58644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458040" y="448128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4940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54560" y="4940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4940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4940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9520" y="47973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1989000"/>
            <a:ext cx="3837240" cy="207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NF formu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represented as a circu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of 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he latter being a constant 0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hard because they are very different “structurally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02560" y="1268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C is “simpler” than S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wo Practical Reasons for Studying EC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1700280"/>
            <a:ext cx="743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ternal” Equivalence Checkin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of combi-national circuits is a very important part of the design flow for electronic circuits. (For example, one may need to check if the original circuit is equivalent to one modified by a designer manually or optimized by a second party logic synthesis t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4581360"/>
            <a:ext cx="772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rnal” Equivalence Checkin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ircui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optimized, for every logic synthesis transform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e has to be a “proof” that the circuits before and after this transformation are functionally equival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iter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737400" y="1265400"/>
          <a:ext cx="1363680" cy="1552320"/>
        </p:xfrm>
        <a:graphic>
          <a:graphicData uri="http://schemas.openxmlformats.org/drawingml/2006/table">
            <a:tbl>
              <a:tblPr/>
              <a:tblGrid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6400800" y="1409760"/>
            <a:ext cx="10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83960" y="1193760"/>
            <a:ext cx="109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7400" y="1265400"/>
            <a:ext cx="43164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54680" y="765000"/>
            <a:ext cx="97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-88920" y="836640"/>
          <a:ext cx="4713480" cy="540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88920" y="836640"/>
                    <a:ext cx="47134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997000" y="1700280"/>
            <a:ext cx="142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357720"/>
            <a:ext cx="3529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rcuit on the left (called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 mi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satis-fiable if and only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inequi-val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1989000"/>
            <a:ext cx="7201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ce Checking (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ircuits with a Common Specification (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gle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of Circuits with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03:54:10Z</dcterms:created>
  <dc:creator>administrator</dc:creator>
  <dc:description/>
  <dc:language>en-US</dc:language>
  <cp:lastModifiedBy>Eugene Goldberg</cp:lastModifiedBy>
  <dcterms:modified xsi:type="dcterms:W3CDTF">2006-11-04T13:34:02Z</dcterms:modified>
  <cp:revision>1530</cp:revision>
  <dc:subject/>
  <dc:title>PowerPoint Presentation</dc:title>
</cp:coreProperties>
</file>